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D89-1AB6-49E1-B3C2-17773077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D36-8E18-47F3-976D-71F016E2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DFA66-E1AB-4883-A0AD-0768E9AB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5E6C8-53BE-4C11-B67D-6C6C3D1B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82049-FD86-4276-AFBD-743F9222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9966A-37D9-40AE-8006-BF1C48EF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6B6A1-1E6E-41AA-9B54-8B045216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1647C-05B8-4B8A-822C-C3FEC9AF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178B1-79FA-4483-AAD8-DE4D3F10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7AFB5-1483-4BC4-8C69-ADB54133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90726-9B1F-4CA8-B9C4-E264065A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E0C82-C32F-43B3-BD23-AE59B724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D10-ADDE-40C3-AA93-698BFFA6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3BB02-2BE2-48A7-B229-683B20D9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0E018-EA02-4B10-A9D1-F8E8EC4B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87150-3B9F-4E93-A129-BCC45602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22FC2-DD84-4BF3-A730-8615A49D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630DE-92E5-471F-B5EE-262CFD79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F1C48-6B8B-42AC-8ADC-A04F6177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BCB01-5C44-4F3C-B38A-F3A07872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458DE-7E8B-48E5-8760-4BCCAA3F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41F2A-EC37-44D1-A572-0192D207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FA924-24DB-4CE5-872E-AEFC1673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442-4ABA-43BC-BFF7-2E7D503B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69596-957B-4C7D-A707-AF456B36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A7B1DF-AAE6-484A-8114-E3C74292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7C977B-E615-4F74-B40D-A58FCC11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6205C6-270B-44DC-BC36-7BB66BB9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947E51-E06B-4039-A104-738D2D67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C78C8B-DDC9-4351-A48A-C39765B5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62E6DC-5C73-4AFE-AA66-1B7C0BEE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6C40FD-6910-44D0-872C-38DCA108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6D1A11-321B-4F83-8C97-0B9AB9B0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848042-716A-4B12-BD68-E95493B9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8191-9ABD-40AD-AB18-48D635C6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C54681-D05D-4253-821F-2EC67AE0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D90927-B2FD-4D81-B789-1C6449C0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6032C8-D2A5-4099-81BA-02542BC6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5E33A-C6DB-4232-B15D-E99A57C0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AB9C3-8A5B-4334-8DF8-4DA35D40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858E9-200C-4308-B939-D066BEE8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8F07D-CC5E-4442-A030-22B62FCA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DE75A-D1CC-4628-90C9-3698F487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E6547-67D2-4A94-B159-06CCC906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ED649-FB4D-4D94-BF6F-E9CD8B75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26E9-69B9-4F64-9054-1C7527F3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75E0F-4455-4E8D-8A8C-6213BE9B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E95D3-00C1-4166-805D-5D172565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C8EB3-A262-4CDE-8ABD-EAEB3F0F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3A8E5-2BC6-4B29-A966-C7A36D34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92A27-8480-4537-A430-51780423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9EAB7-5C8C-4935-9FE0-BF0B44D8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D9C1A-36D9-423A-9F22-6EE01D7F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9559D-627F-4B56-975E-28BBFAC0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0538C-6CE6-4896-8930-F94C2649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431D7-B56E-4635-983A-C189FB99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8C03-C6A4-49EA-AA68-32AAEDF5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92CAB-391E-42F3-9F60-C692D00B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B7AA2-9E60-44F2-8D51-7A1EB915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A807A-8BA7-4F02-B495-181B3123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C5ECA-AE87-433D-8030-987A204F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B77BB-B665-40A6-A5F8-80380408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D81D3-49FA-4455-8526-FB11ADC7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49EA1-97E5-4E48-B3E2-4728D743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8C7798-24E9-4C41-AF01-4273FDA7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1BB0F-D53A-4DC2-8FCE-EF7A95A2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4CF5A9-4169-41AC-BFB5-61398972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296D-690D-4C4B-B7D0-0DDBC403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B38FC-73C4-44D4-A7C4-DF7618E6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801D39-D394-4AAD-8263-ACE6185B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411FC-FD78-400C-BD30-63F76507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1F9E0-D02B-4E4A-B012-073CE896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E4029-7BA3-474C-83E2-E785548B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79005-D44F-40F1-98D7-6ADD81CA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D7DBC-A2AA-48DF-A29E-26BB9109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D98F6-0835-48F0-B807-8F42E7C6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60791-6E4C-4993-9AEB-6883D686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03E958-7470-4A0D-A45A-412F68B6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4D0A-AE9F-492F-8FAE-5ACA9C96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A60B7-17B9-41C6-B0A6-05F7D083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098A6-313E-4314-AB4D-A206A69A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C416D3-E9A5-4788-96BE-AABD1BAE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59DA4-1810-4AB8-ACF7-9615C04A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677166-4188-44F2-93BB-426971BF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4F446-9480-4E87-9CD8-C0B5E575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7DA87-DBF5-418E-9547-B4CF2EA0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0CDFF9-E8C3-4E2A-A255-CFA0D8C3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17DE72-A901-4B57-AD22-D96DEBB0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67BEED-29ED-4026-965C-CBCAFA16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C17A-94BC-46DE-A555-F6D61EF6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1D9AD-A7B1-4EFF-BD05-C0889F2D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805580-2220-453C-867A-667D550E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8FBD16-5660-48A2-A583-DFDAC56D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B550C-A8E2-437E-A4C0-165CBDD4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55F3C-5D22-4C02-A102-7900C68B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348B13-1DF3-4F30-B489-B209C68F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5E7678-3F70-413B-9C28-6B34A92B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CC1C43-23BB-4CAA-8813-BFC89D36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4FE6E0-2358-4F38-8A08-694D0F50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30E69-C6AB-4E8E-AD09-B1C20787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8429-7E1C-4F88-9D96-E32A4DE8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A2D1E1-670B-482E-9A28-7593F1F3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E9C772-D7D1-4CB4-B3D7-62CB9CDD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9E09F9-2427-4E39-B9F6-EF2CD9FD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686-68B0-48F2-8AF4-A6EDBF67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CA56-489F-4233-80A7-CB00D9A2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05A6-0E4C-45CF-865D-3D8F0464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CDC9-28F4-404A-B810-106C5F60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6CE1-3657-48C1-ACC2-772D5E00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572F-7B25-40C2-BBD3-6BD08744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51D1-5743-4F7B-B867-57CAD003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8996-2D99-4475-84AE-5C45F050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0822-9090-467E-AA1A-757A58CF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1FC77-F67B-4912-8531-6D06A3E2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6DD68-2B8F-4DB7-9850-0F2682CF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0CF-4DC0-4D15-9BBD-430D4137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9C668-8E83-43F3-A56A-EDCE4D8A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CF109-F57A-4321-98FA-A2D5D540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B4934-960F-4D86-8964-1C1287B0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C57B6-44DA-4013-94D5-7C25CDEC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3C447-5ACE-4260-ABD5-7CE072E3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4E3B7-97AB-45B8-9ADB-DF35F40B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B91B8-612F-4B0D-BD50-E9DCA535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11815-7AB7-472A-88DB-F8B0F4C7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77577-D50C-4F70-A90A-4B7F0FC3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9354A-74AE-4D40-8652-0C5DB904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42C-5378-40D2-BD86-B3787D32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29B47-6182-4A43-B826-697E0B0B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ED1ED-F0C3-4E51-A2FD-5F3322E6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9CDFA-EF3C-4BA1-B2B4-E29CCBC9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305EE-AE4E-448B-B75C-312D5D51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969E1-A036-4EC2-9F42-5C8288BF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9DD74-808C-4731-99C9-49C14D75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33B65-28D6-4073-AFEF-7E3A0A67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626AE-7118-4AE7-AF78-227795D2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769F4-A3FB-4CFD-B4B5-910D67CD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AB9E4-8112-4A42-ACE2-09D6D7B8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2CC-E0E5-4EF4-AB80-53136587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01AA8-83AF-418D-8C6E-63A3987E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CF806-CD05-4750-BD55-DE4ACE2C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39985-FA9A-4882-8015-920BEF0B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A153C-DB5C-4010-B9FF-A560B4F3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89CA4-A15F-4039-9A56-2923DB17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D4EC7-97A5-4F42-A537-95F1DC6D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B20A2-8FF9-4C7F-A1AA-19C0246F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10820-0E42-4734-9404-894F111D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DB393-9520-4D51-A7B6-14E1D422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FB36C-1BA6-4D32-9F44-658C68F0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6D6-4097-48C0-82F2-D62B2ACE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A9332-A6B2-428A-8B6A-891D0DDB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4FFDD-B78C-4659-A5EC-CBAE84AC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B6AC9-A89D-4159-8533-5F5CBA9D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7C20B-AEA1-4124-ACB8-F291D71B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1FE5E-7AC2-407B-B92A-3AEE5E2B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569A7-D11F-4871-9452-7EBD9DAA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079BC-128A-4621-A312-1C66F89E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F0C75-1668-4CEC-BD47-D9D87CCB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38C50-5341-4EAE-9519-BFD1A6F3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98BDF-EAA0-4525-8B0D-E1961533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057-D8AD-4EEE-91BD-E0D2A0EE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7AE5E-C455-47B8-B360-C66FFD3D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EDF13-1A69-4EC2-B28C-9CF33A45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BE01B-E1B5-44FD-81D8-20F6AE94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19A23-AF3D-4471-9B51-A9B8BA57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E5348-5F83-4A0C-A022-FCA629D8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33267-95F1-43C0-ACE4-F4F62C3F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B2711-AD05-45DB-ACC4-D019CC4A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9FF03-E3F9-48D6-8306-6A921285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69CDA-04EF-4D87-834E-65499314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EB678-7938-4D4F-B4C8-4272E4D7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02F-ED16-47C2-A53F-8F477CA8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9BD9C-53CF-4634-BF78-12885711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19E8C-3443-4772-87BB-F13B9872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75370-300B-4BE8-A934-6340554A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F31FD-D580-40E1-A2CF-7D3BC293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59147-5266-47C9-B863-00B0BDD9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99417-7528-46C5-95CA-A7AAD85C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11570-B635-42EC-9918-02839351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24327-2E11-4A4B-B7E0-FC9D2E19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E013F-85B1-4123-AD06-FF14AF3C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F7411-254C-4D14-AC19-D22A08E8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5C6-72D4-4213-BD7B-4555BF3A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B515C-D9A5-43B0-8C01-C1441123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6DC49-D9F4-4A8E-951F-22B4113A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1FF50-9DDE-4393-A007-35A42DBD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E2B2E-BF28-4706-8CC4-8DFAC9E4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3E093-1B60-480F-8104-2A34D691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771B5-42CC-4485-B938-45D00275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07E77-808E-4CFF-82D5-2DDEA9C8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5AA11-3DF1-4AFE-8488-814EB22C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87268-B59F-4A1B-9F85-328FB863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C0B40-C0F4-46C3-BE20-661B068F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171A-4DD9-4032-8F94-BDEA67F51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B7E7-68B9-4BB7-8A95-480610A51D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86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9" name="PlaceHolder 1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7724-16B0-4D45-B358-A1D13B946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12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99DC-1A17-4615-8420-BD0540620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7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8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8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8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9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0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0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2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BBC6-98D5-4505-92FB-3A495C5F25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7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7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7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7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8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8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9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9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1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B1CE-E993-4227-9B83-50BC676F2E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97EA-277F-4347-A236-49215DB512D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7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8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9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0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0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0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0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0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2A5A-1E69-46D2-95A0-BB6074E3D8D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66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66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6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67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7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67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6B7F-B0FE-4890-A8E3-B9D522431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3EE8-30B4-402A-A8AD-C7E2E0C671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DC39-D634-4CA6-A2D8-A694D6373F5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8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B73C-BD40-4F0B-835B-AEF2A36CF9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8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B14B-1012-4100-A927-DAD46E3910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50AE-866A-4ADD-9C3F-1D6ADFF5919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3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1B48-5794-4DC2-B8C4-B09AA6B398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3C83-558D-4D12-A1A1-767D43F56D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qnyc.org/" TargetMode="External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qnyc.org/NYC052376/whatisworkshop_new.html" TargetMode="External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Workshop Model: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Optimizing the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Mini-lesso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ri Gr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larisa Konstantinovsk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ucation 702.22 – Fall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O’Connor- Petru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7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ru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ent form to the principal of the Title 1 school where the research will be conduc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ent form to the parents/guardians of the student of inter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veys to parents to obtain additional information about the particip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veys to othe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grade teachers regarding their opinion of the effectiveness of the Workshop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veys to students about their opinion of the Workshop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endix A:  Consent For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al consent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LEASE SIGN AND RETURN TO YOUR CHILD’S TEACH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mission to participate in the thesis pap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ld’s name 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________  I give my permission for my child to participate in the anonym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sis/research paper over the course of the school year of 200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ent/Guardian Signature: ____________________  Date: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ncipal Consent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mission granted:  _________________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endix B:  Surve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 Survey to parents/guardia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prefer that my child receives more direct reading instruction during school hour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Dis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 Survey to teach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udents will score higher on standardized tests if they receive more direct reading instruc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Dis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 Survey to stude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like reading independently in schoo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Dis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2" name="" descr=""/>
          <p:cNvPicPr/>
          <p:nvPr/>
        </p:nvPicPr>
        <p:blipFill>
          <a:blip r:embed="rId1"/>
          <a:stretch/>
        </p:blipFill>
        <p:spPr>
          <a:xfrm>
            <a:off x="3048120" y="3733920"/>
            <a:ext cx="2971800" cy="2133360"/>
          </a:xfrm>
          <a:prstGeom prst="rect">
            <a:avLst/>
          </a:prstGeom>
          <a:ln w="0">
            <a:noFill/>
          </a:ln>
        </p:spPr>
      </p:pic>
      <p:sp>
        <p:nvSpPr>
          <p:cNvPr id="1743" name=""/>
          <p:cNvSpPr/>
          <p:nvPr/>
        </p:nvSpPr>
        <p:spPr>
          <a:xfrm>
            <a:off x="838080" y="91440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TC or not to TC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at is the question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5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able of Cont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oduc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Statement of the Probl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Review of Related Lit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Statement of the Hypothe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Participants (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Instru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end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Appendix A:  Consent Fo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Appendix B:  Surve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atement of the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  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ue to grades falling and illiteracy rising, this research is based primarily on the “Workshop Model”; more exact the reading and writing workshop as described in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www.tqnyc.or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“The workshop model intends for the students to learn reading and writing skills through much participation amongst themselves and their peers”, which follows whole-word learning and is in direct opposition of the phonics methodolog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Teacher’s College format of the model itself is a scripted and timed method of teaching or facilitating learning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ach reading and writing workshop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mu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consist of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Teaching Point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Address the standard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Connection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Activate prior knowledge and focus attention on the lesson for 1 minu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Mini-lesson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Demonstrates the teaching point as if you were working independently for 10-15 minut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Link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Review and clarify key points before sending them to work independently or in a group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Active Engagement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Students work independently or in groups while you are conferring or assessing individual or small groups of student readers or writers for 20-30 minutes based on your mini-less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Mid-Workshop Interruptio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:  Remind the students of the Teaching Point and compliment for no more than 1 minu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Share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Two or three students get to share what they wrote or read, linked to the day's lesson for 1- 2 minute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Closure / Link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Review and clarify key points for 1 minu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Homework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Should be based on the teaching point of the day's less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4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urpose of the The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ough this research the hope is to find out if such a rigorous structure of teaching is most beneficial for students or if more could be learned and retained without a time limitation and other restraint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Bibliograp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 Model.  (n.d.).  Retrieved September 30, 2008, from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tqnyc.org/NYC052376/whatisworkshop_new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s of the Workshop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teachers the opportunity to model skill or strategy (Adriana, 2006) (Robb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al mini-lesson allows teachers and students to succeed (Popham, 197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taught using the Workshop Model are more likely to read for pleasure (Lause,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izes the class for each student (Carmicha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for conferences with students (Furr, 20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s of the Workshop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per a teachers contract, they cannot be excessively micromanaged (Callaci, 200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 should decide how to teach his/her own students (Krasner, 197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 need to have the freedom to modify lessons and activities as needed (Lieberman, 2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atement of the Hypothesi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Workshop Model’s rigorous time schedule will enhance the discipline to provide the optimum opportunity for third and fifth grade readers and writers (students) in a Title 1 school to gain knowledge and higher test scores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ipa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ty-eight third and fifth grade students in a Title 1 school in Brooklyn, New Yor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20:37:10Z</dcterms:created>
  <dc:creator>0e-17</dc:creator>
  <dc:description/>
  <dc:language>en-US</dc:language>
  <cp:lastModifiedBy> Lori M Grabel</cp:lastModifiedBy>
  <dcterms:modified xsi:type="dcterms:W3CDTF">2008-12-04T00:28:27Z</dcterms:modified>
  <cp:revision>36</cp:revision>
  <dc:subject/>
  <dc:title>The Workshop Model: Optimizing the Mini-lesson</dc:title>
</cp:coreProperties>
</file>